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D0A-3301-4047-BED6-04B6CC72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B3E-828D-4B23-AE67-42B268CC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FE9-BCA4-4FB5-9AC4-CA8EBE01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A39-19A9-4FFD-9601-2EEDD934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D00-84ED-4180-8EA1-C5D5AB5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AE7-D48F-449C-950F-0EA0D1E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50B-6504-4BE2-9CAD-EF8D2BD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64D-DD23-4241-AC28-BAC157D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07D-41AC-486A-A8FA-1A89B2B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30F-11BE-46D7-B4E6-276A585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BB1-A6C6-41CC-AD23-030A531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AE9-FCBA-4077-94D8-69F3354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D03-A72E-4FE3-B48C-5473C4A9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572400" y="3720960"/>
            <a:ext cx="885852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8e108"/>
                </a:solidFill>
                <a:latin typeface="Monotype Corsiva"/>
              </a:rPr>
              <a:t>Ти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ъв мра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откри скръбта 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620640"/>
            <a:ext cx="11379240" cy="707148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само чрез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en-US" sz="10600" spc="-1" strike="noStrike">
                <a:solidFill>
                  <a:srgbClr val="f8e108"/>
                </a:solidFill>
                <a:latin typeface="Monotype Corsiva"/>
              </a:rPr>
              <a:t>Тебе 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ще см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8800" spc="-1" strike="noStrike">
                <a:solidFill>
                  <a:srgbClr val="f8e108"/>
                </a:solidFill>
                <a:latin typeface="Monotype Corsiva"/>
              </a:rPr>
              <a:t>променени</a:t>
            </a:r>
            <a:r>
              <a:rPr b="1" lang="bg-BG" sz="8800" spc="-1" strike="noStrike">
                <a:solidFill>
                  <a:srgbClr val="f8e108"/>
                </a:solidFill>
                <a:latin typeface="Monotype Corsiva"/>
              </a:rPr>
              <a:t>.    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294120" y="344520"/>
            <a:ext cx="10242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e108"/>
                </a:solidFill>
                <a:latin typeface="Monotype Corsiva"/>
              </a:rPr>
              <a:t>Твоето Слов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откри радостта н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768320" y="549360"/>
            <a:ext cx="12598200" cy="41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че в небето ще бъдем събра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8800" spc="-1" strike="noStrike">
                <a:solidFill>
                  <a:srgbClr val="f8e108"/>
                </a:solidFill>
                <a:latin typeface="Monotype Corsiva"/>
              </a:rPr>
              <a:t>с Теб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en-US" sz="11700" spc="-1" strike="noStrike">
                <a:solidFill>
                  <a:srgbClr val="f8e108"/>
                </a:solidFill>
                <a:latin typeface="Monotype Corsiva"/>
              </a:rPr>
              <a:t>Господи</a:t>
            </a:r>
            <a:r>
              <a:rPr b="1" lang="bg-BG" sz="11700" spc="-1" strike="noStrike">
                <a:solidFill>
                  <a:srgbClr val="f8e108"/>
                </a:solidFill>
                <a:latin typeface="Monotype Corsiva"/>
              </a:rPr>
              <a:t>.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05372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слав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21320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ел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05520" y="349200"/>
            <a:ext cx="10125000" cy="473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Днес сме събран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8800" spc="-1" strike="noStrike">
                <a:solidFill>
                  <a:srgbClr val="f8e108"/>
                </a:solidFill>
                <a:latin typeface="Monotype Corsiva"/>
              </a:rPr>
              <a:t>да пеем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за Тебе,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82080" y="-44280"/>
            <a:ext cx="12443040" cy="35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за </a:t>
            </a:r>
            <a:r>
              <a:rPr b="1" lang="bg-BG" sz="11700" spc="-1" strike="noStrike">
                <a:solidFill>
                  <a:srgbClr val="f8e108"/>
                </a:solidFill>
                <a:latin typeface="Monotype Corsiva"/>
              </a:rPr>
              <a:t>любовта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Т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да пеем хвале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47240" y="-423720"/>
            <a:ext cx="9862560" cy="40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Твоята </a:t>
            </a:r>
            <a:r>
              <a:rPr b="1" lang="bg-BG" sz="11700" spc="-1" strike="noStrike">
                <a:solidFill>
                  <a:srgbClr val="f8e108"/>
                </a:solidFill>
                <a:latin typeface="Monotype Corsiva"/>
              </a:rPr>
              <a:t>милост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към нас 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голя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59280" y="5156280"/>
            <a:ext cx="11926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със 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Словото Си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огря 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91120" y="3141720"/>
            <a:ext cx="12035880" cy="39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и за това ще повтаря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 наслада </a:t>
            </a:r>
            <a:br>
              <a:rPr sz="7200"/>
            </a:b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мой Господи!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/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05372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слав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121320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ел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91960" y="-65160"/>
            <a:ext cx="1122804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войте ръц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е простира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към мене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700360" y="3357720"/>
            <a:ext cx="117014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и ме водя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ъс нежност при Тебе, </a:t>
            </a:r>
            <a:br>
              <a:rPr sz="7200"/>
            </a:b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/2                       </a:t>
            </a:r>
            <a:r>
              <a:rPr b="1" lang="bg-BG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680" y="5302080"/>
            <a:ext cx="88095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мой Господи</a:t>
            </a:r>
            <a:r>
              <a:rPr b="1" lang="en-US" sz="9600" spc="-1" strike="noStrike">
                <a:solidFill>
                  <a:srgbClr val="f8e108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5372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слав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298160" y="2133720"/>
            <a:ext cx="11875680" cy="50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200" spc="-1" strike="noStrike">
                <a:solidFill>
                  <a:srgbClr val="f8e108"/>
                </a:solidFill>
                <a:latin typeface="Monotype Corsiva"/>
              </a:rPr>
              <a:t>Д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а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светлина</a:t>
            </a:r>
            <a:br>
              <a:rPr sz="9600"/>
            </a:b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  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и огрей ни съ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8e108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Твойто Слово</a:t>
            </a:r>
            <a:r>
              <a:rPr b="1" lang="bg-BG" sz="129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213200" y="581040"/>
            <a:ext cx="7616160" cy="73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Скоро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       </a:t>
            </a:r>
            <a:r>
              <a:rPr b="1" lang="bg-BG" sz="10600" spc="-1" strike="noStrike">
                <a:solidFill>
                  <a:srgbClr val="f8e108"/>
                </a:solidFill>
                <a:latin typeface="Monotype Corsiva"/>
              </a:rPr>
              <a:t>ела</a:t>
            </a: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8e108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всички пе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bg-BG" sz="10600" spc="-1" strike="noStrike">
                <a:solidFill>
                  <a:srgbClr val="ffffff"/>
                </a:solidFill>
                <a:latin typeface="Monotype Corsiva"/>
              </a:rPr>
              <a:t>ела”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!</a:t>
            </a:r>
            <a:br>
              <a:rPr sz="80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1626480" y="4092480"/>
            <a:ext cx="1258164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Целият свя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се спасява чрез Тебе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15:18Z</dcterms:created>
  <dc:creator>TrifonTrifonow</dc:creator>
  <dc:description/>
  <dc:language>en-US</dc:language>
  <cp:lastModifiedBy>TrifonTrifonow</cp:lastModifiedBy>
  <dcterms:modified xsi:type="dcterms:W3CDTF">2005-12-15T20:15:42Z</dcterms:modified>
  <cp:revision>1</cp:revision>
  <dc:subject/>
  <dc:title>Slide 1</dc:title>
</cp:coreProperties>
</file>